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B7A-391D-4591-8832-A40B1BFA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904-58FC-44F8-9A3E-B8E6FC4B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FE7-0AF4-4A6C-9FDB-74E7902B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646-D44E-41B1-A9B8-C35C0FE7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69B-2E86-43A9-A488-EEEA57F8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1CD-AA7E-41C0-A42E-ACA98E2D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36F-DE0B-48FD-B519-6ADF5BB1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1A8-A217-4636-AB47-9E4510EA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2CB-3C3C-4B74-AE9F-B9E43C4B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8DE-FB7E-4CCB-8CFC-E611C881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2E5-B4BF-49EA-B3DF-FFF59159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B3B-30C5-49B0-864B-865BD11D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77E0-A4E5-4F85-B393-41E1F2EA24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274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51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оект </a:t>
            </a:r>
            <a:br>
              <a:rPr sz="6600"/>
            </a:b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«Альбом памяти»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104292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2510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КОУ СШ № 7 г. Петров В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10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мышинского муниципального райо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10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лгоградск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1982520" y="3645000"/>
            <a:ext cx="69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посвященный 78-летию победы в В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933360" y="525456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22-2023 учебный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rcRect l="34638" t="22829" r="33419" b="24301"/>
          <a:stretch/>
        </p:blipFill>
        <p:spPr>
          <a:xfrm>
            <a:off x="1763640" y="1557360"/>
            <a:ext cx="3040200" cy="4025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63360" y="15480"/>
            <a:ext cx="7281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Impact"/>
              </a:rPr>
              <a:t>Попов Иосиф Сергее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4140360" y="7603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1908 г.-1981г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4840200" y="2852640"/>
            <a:ext cx="42642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едаль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Отваг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» приказ №09/Н от 10.06.1942 - Медаль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боевые заслуг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» приказ №15/Н от 10.07.19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рден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асная звез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» приказ №38/Н от 10.10.194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рден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асная звез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» приказ №12/Н от 06.04.194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 Орден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ечественной войны 1 степе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» приказ №69/Н от 25.10.1944194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рден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ден Славы 3 степе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» приказ №41/Н от 22.05.194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4840200" y="1284120"/>
            <a:ext cx="4264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зван на фронт  03 сентября 1941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евал в  должности сапера-разведчика 410 отдельного саперного батальона 242 горно- стрелковой дивизии 56 Армии Северо-Кавказского фрон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63360" y="-360"/>
            <a:ext cx="7280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Impact"/>
              </a:rPr>
              <a:t>Сахнов Николай Ивано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3791160" y="790560"/>
            <a:ext cx="37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09.03.1927-25.04.20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4211640" y="1314360"/>
            <a:ext cx="4572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944 году новобранцем сначала попал под УФУ в стрелковую роту-минометчиком .Воевал в Белоруссии, а в январе 45-го подразделение перебросили на Дальний Восток в бухту Находка. Служил там в авиационной части -бомбардировщик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на высоко оценила героизм молодого солдата. Был удостоен таких наград ,как 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ден «Отечественной войн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епени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даль «За победу над Германией», медаль «За участие в войне с Японией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но самое значимое-это личная благодарность от Сталина за участие в боях с Японскими империалист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Рисунок 7" descr=""/>
          <p:cNvPicPr/>
          <p:nvPr/>
        </p:nvPicPr>
        <p:blipFill>
          <a:blip r:embed="rId1"/>
          <a:srcRect l="4888" t="0" r="6209" b="0"/>
          <a:stretch/>
        </p:blipFill>
        <p:spPr>
          <a:xfrm>
            <a:off x="1763640" y="1916280"/>
            <a:ext cx="244800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1991520" y="404640"/>
            <a:ext cx="69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Impact"/>
              </a:rPr>
              <a:t>Зайцев Михаил Матвее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154040" y="1112760"/>
            <a:ext cx="28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гиб в мае 19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411280" y="1916280"/>
            <a:ext cx="6591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ился в с. Иванцовка , Палассовский район,  Сталинградская область. Был призван в 1942 году. Служил в батальоне красноармейцем. После года службы в Сталинграде пропал без вести. Дошел до Белгор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C:\Users\1\Pictures\2021-04-27\001 (2).jpg"/>
          <p:cNvPicPr/>
          <p:nvPr/>
        </p:nvPicPr>
        <p:blipFill>
          <a:blip r:embed="rId1"/>
          <a:stretch/>
        </p:blipFill>
        <p:spPr>
          <a:xfrm>
            <a:off x="2195640" y="2313000"/>
            <a:ext cx="2520720" cy="3745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2262600" y="404640"/>
            <a:ext cx="678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Impact"/>
              </a:rPr>
              <a:t>Иванов Иван Тимофее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2448000" y="1112760"/>
            <a:ext cx="641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гиб 05.11.1943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ебская обл., Меховского района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вня  Луф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4992840" y="3154320"/>
            <a:ext cx="388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андир взвода1195,ст.полка 360,Невельской стр. диви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C:\Users\1\Pictures\2021-04-27\002 (2).jpg"/>
          <p:cNvPicPr/>
          <p:nvPr/>
        </p:nvPicPr>
        <p:blipFill>
          <a:blip r:embed="rId1"/>
          <a:stretch/>
        </p:blipFill>
        <p:spPr>
          <a:xfrm>
            <a:off x="2124000" y="1989000"/>
            <a:ext cx="2664000" cy="35276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704960" y="404640"/>
            <a:ext cx="760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Impact"/>
              </a:rPr>
              <a:t>Иванов Тимофей Василье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4218480" y="1147680"/>
            <a:ext cx="22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1903-194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5516280" y="288288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сноарме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4843080" y="3659040"/>
            <a:ext cx="41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о захоронения неизвест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C:\Users\1\Desktop\00000736_photo.jpg"/>
          <p:cNvPicPr/>
          <p:nvPr/>
        </p:nvPicPr>
        <p:blipFill>
          <a:blip r:embed="rId1"/>
          <a:stretch/>
        </p:blipFill>
        <p:spPr>
          <a:xfrm>
            <a:off x="1835280" y="1766880"/>
            <a:ext cx="2644560" cy="36734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575640" y="230040"/>
            <a:ext cx="89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Impact"/>
              </a:rPr>
              <a:t>Лесникова (Фурсова) Антонина Васил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724200" y="8431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5.03.1920-13.03.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4611600" y="1400040"/>
            <a:ext cx="4281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вакуационный госпиталь 3257 (ЭГ -3257) в составе 1 Белорусского фронта:  Бобруйская наступательная операция, Минская наступательная операция, Люблинско-Брестская наступательная операция, Висла-Одерская наступательная операция, Восточно-Померанская наступательная операция,  Берлинская наступательная операция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гражден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деном Отечественной войн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пени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ала трудовую деятельность фельдшером амбулатории с. Лебяжье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3"/>
          <p:cNvSpPr/>
          <p:nvPr/>
        </p:nvSpPr>
        <p:spPr>
          <a:xfrm>
            <a:off x="1920600" y="317520"/>
            <a:ext cx="713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Impact"/>
              </a:rPr>
              <a:t>Лесников Василий Алексееви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Рисунок 4" descr="C:\Users\Sergej\Desktop\Дедушка.jpeg"/>
          <p:cNvPicPr/>
          <p:nvPr/>
        </p:nvPicPr>
        <p:blipFill>
          <a:blip r:embed="rId1"/>
          <a:stretch/>
        </p:blipFill>
        <p:spPr>
          <a:xfrm>
            <a:off x="2058840" y="1897200"/>
            <a:ext cx="2152800" cy="3456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3635280" y="96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5.03.1922-22.09.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4427640" y="156852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льневосточный боевой авиационный полк. Готовил к полетам скоростные бомбардировщики С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гражден Орденом  Отечественной войны II степ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ил трудовую деятельность авиамехаником на военном аэродроме с. Лебяжье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1975680" y="404640"/>
            <a:ext cx="665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Impact"/>
              </a:rPr>
              <a:t>Матюхо Пётр Степано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3280320" y="1225440"/>
            <a:ext cx="446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13.06.1919-неизвестн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2411280" y="1916280"/>
            <a:ext cx="6591600" cy="31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ился в г. Томске. Был призван в Советскую армию на начало войны. Воевал в конной армии . Был на защите Москвы. Дошел до границы Советского союза, был ранен , попал в госпита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гражден орденами и медал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63360" y="115560"/>
            <a:ext cx="7280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Impact"/>
              </a:rPr>
              <a:t>Петелин Артём Михайло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5148360" y="2349360"/>
            <a:ext cx="3684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фронта вернулся в 1943 году, был ранен. После войны растил дочь и внучк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3503520" y="932040"/>
            <a:ext cx="40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9.05.1903-25.03.197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245592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282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Impact"/>
              </a:rPr>
              <a:t>Пивоваров Иван Ивано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4775040" y="1484280"/>
            <a:ext cx="42116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возрасте 18 лет , окончив краткосрочные офицерские курсы, начал действительную военную службу в рядах Красной Армии лейтенантом. Служил офицером и начальником химической службы пол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ден Отечественной войны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тепени: 13.09.19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ден Отечественной войны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тепени: 14.05.19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аль за победу над Германией в Великой Отечественной войне 1941-1945: 25.11.19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аль за взятие Кенигсберга :25.10.19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окончания войны был слушателем Военной Академии химической защи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2773440" y="900000"/>
            <a:ext cx="426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20.08.1923-10.03.19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rcRect l="6193" t="11907" r="6507" b="7147"/>
          <a:stretch/>
        </p:blipFill>
        <p:spPr>
          <a:xfrm>
            <a:off x="2268360" y="2133720"/>
            <a:ext cx="2303640" cy="284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редшкола</cp:lastModifiedBy>
  <dcterms:modified xsi:type="dcterms:W3CDTF">2023-05-02T15:28:43Z</dcterms:modified>
  <cp:revision>62</cp:revision>
  <dc:subject/>
  <dc:title>Слайд 1</dc:title>
</cp:coreProperties>
</file>